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AC1-C9F1-4F30-9F44-BC0C7522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595-2201-4585-BF7F-CE7693C2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DAF-1BBE-4865-9078-A9BAE9E9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A1B-16AB-4CE7-A951-EAC266DB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68F-556B-44FD-9528-34CA5023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E68-FB7F-48DD-8BD5-BB61B94D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639-E41F-4BF4-BEBF-4E3105CD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5AE-D22D-410B-810F-3C8F18BE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8C3-B209-4835-B201-F873D6BE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D66-D0C2-4CF6-AB20-CC739B9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BE4-0889-47FD-96B2-47814AC0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49D-23A6-4A14-9F41-D5345B0E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442B-FFFD-4230-97B0-707A04D72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040" y="1573200"/>
            <a:ext cx="76518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gainst Preju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63800" y="4368960"/>
            <a:ext cx="6178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by Mal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735520"/>
            <a:ext cx="2022480" cy="1886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5880" y="5788080"/>
            <a:ext cx="2011320" cy="182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708440" y="676440"/>
            <a:ext cx="17272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Qu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00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2f1311"/>
                </a:solidFill>
                <a:latin typeface="Arial"/>
              </a:rPr>
              <a:t>I object to violence because when it appears to do good, the good is only temporary; the evil it does is permanent." </a:t>
            </a:r>
            <a:br>
              <a:rPr sz="3500"/>
            </a:br>
            <a:r>
              <a:rPr b="0" i="1" lang="en-US" sz="3500" spc="-1" strike="noStrike">
                <a:solidFill>
                  <a:srgbClr val="2f1311"/>
                </a:solidFill>
                <a:latin typeface="Arial"/>
              </a:rPr>
              <a:t>-- Mohandas K. Gandhi</a:t>
            </a: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i="1" lang="en-US" sz="3500" spc="-1" strike="noStrike">
                <a:solidFill>
                  <a:srgbClr val="2f1311"/>
                </a:solidFill>
                <a:latin typeface="Arial"/>
              </a:rPr>
              <a:t>War is as outmoded as cannibalism, chattel slavery, blood-feuds, and dueling, an insult to God and humanity...a daily crucifixion of Christ."</a:t>
            </a: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 --Unkn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Be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6600" y="1827000"/>
            <a:ext cx="39384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2f1311"/>
                </a:solidFill>
                <a:latin typeface="Arial"/>
              </a:rPr>
              <a:t>"We can all do our share to redeem the world in spite of all absurdities and all frustrations and all disappointments."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2f1311"/>
                </a:solidFill>
                <a:latin typeface="Arial"/>
              </a:rPr>
              <a:t>   </a:t>
            </a:r>
            <a:r>
              <a:rPr b="0" i="1" lang="en-US" sz="3100" spc="-1" strike="noStrike">
                <a:solidFill>
                  <a:srgbClr val="2f1311"/>
                </a:solidFill>
                <a:latin typeface="Arial"/>
              </a:rPr>
              <a:t>Abraham Hesh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83360" y="304920"/>
            <a:ext cx="2149200" cy="139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81480" y="5079960"/>
            <a:ext cx="16416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STOP PREJU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6600" y="1827000"/>
            <a:ext cx="812016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"War would end if the dead could return." Stanley Baldwin.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In peace sons bury fathers, but war violates the </a:t>
            </a:r>
            <a:r>
              <a:rPr b="0" i="1" lang="en-US" sz="3600" spc="-1" strike="noStrike" u="sng">
                <a:solidFill>
                  <a:srgbClr val="2f1311"/>
                </a:solidFill>
                <a:uFillTx/>
                <a:latin typeface="Arial"/>
              </a:rPr>
              <a:t>order of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nature, and fathers bury sons." - Herodotus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27280" y="5283360"/>
            <a:ext cx="26463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36600" y="1827000"/>
            <a:ext cx="812016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2f1311"/>
                </a:solidFill>
                <a:latin typeface="Arial"/>
              </a:rPr>
              <a:t>Can one have love? If we could, love would need to be a thing, a substance that one can have, own, possess. The truth is, there is no such thing as "love." "Love" is an abstraction, perhaps a goddess or an alien being, although nobody has ever seen this goddess. In reality, there exists only the act of loving. To love is a productive activity. It implies caring for, knowing, responding, affirming, enjoying: the person, the tree, the painting, the idea. It means bringing to life, increasing his/her/its aliveness. It is a process, self-renewing and self increasing. from To Have or to B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2f1311"/>
                </a:solidFill>
                <a:latin typeface="Arial"/>
              </a:rPr>
              <a:t>Erich Fro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0120" y="6299280"/>
            <a:ext cx="2253960" cy="212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984400" y="6010200"/>
            <a:ext cx="20322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gainst Preju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26120" y="3882960"/>
            <a:ext cx="2033640" cy="204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7680" y="3795840"/>
            <a:ext cx="928836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"We can all do our share to redeem the world in spite of all absurdities and all frustrations and all disappointment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braham Heshe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41880" y="4183200"/>
            <a:ext cx="11916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